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5BF9-25FA-47A5-958A-8364A1251B4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6120-6537-49CE-A342-8BF7D992581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21272-00B5-47FF-8795-6B55DAB2A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F6C36-B878-438E-AE9E-FC7862078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5D686-0BBE-4822-895A-FAA75D141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275C9-8C9D-4989-8622-DAE65AF83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FF0AD-9E2A-4A9B-B1E1-97FD1DCDB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6B890-6A7C-4D26-87DF-71011A81B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3EB71-C61D-4090-8A61-5554BA75D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3572E-6E3F-4B06-B154-DC3B71C7A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38DB4-E983-4704-BF5C-92D9FB1F1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2BAD8-9BCA-4E8F-99D7-1062173D1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7D681-F5B5-4671-B9BF-63882434D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D49CD-1158-4240-BAC2-D8D8004FF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85760" indent="-228600">
              <a:spcBef>
                <a:spcPts val="700"/>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28840" indent="-228600">
              <a:spcBef>
                <a:spcPts val="700"/>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771560" indent="-228600">
              <a:spcBef>
                <a:spcPts val="700"/>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326200" y="29718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CHAPTER</a:t>
            </a:r>
            <a:endParaRPr b="0" lang="en-US" sz="1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6"/>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673704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6</a:t>
            </a:r>
            <a:endParaRPr b="0" lang="en-US" sz="6600" spc="-1" strike="noStrike">
              <a:solidFill>
                <a:srgbClr val="000000"/>
              </a:solidFill>
              <a:latin typeface="Arial"/>
            </a:endParaRPr>
          </a:p>
        </p:txBody>
      </p:sp>
      <p:sp>
        <p:nvSpPr>
          <p:cNvPr id="52"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olescent Perpetrators</a:t>
            </a:r>
            <a:endParaRPr b="0" lang="en-US" sz="2800" spc="-1" strike="noStrike">
              <a:solidFill>
                <a:srgbClr val="000000"/>
              </a:solidFill>
              <a:latin typeface="Arial"/>
            </a:endParaRPr>
          </a:p>
        </p:txBody>
      </p:sp>
      <p:pic>
        <p:nvPicPr>
          <p:cNvPr id="54"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85760" indent="-228600">
              <a:spcBef>
                <a:spcPts val="700"/>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28840" indent="-228600">
              <a:spcBef>
                <a:spcPts val="700"/>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771560" indent="-228600">
              <a:spcBef>
                <a:spcPts val="700"/>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6"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 name="Picture 8" descr="Pearson_Bound_White"/>
          <p:cNvPicPr/>
          <p:nvPr/>
        </p:nvPicPr>
        <p:blipFill>
          <a:blip r:embed="rId2"/>
          <a:stretch/>
        </p:blipFill>
        <p:spPr>
          <a:xfrm>
            <a:off x="7621560" y="6400800"/>
            <a:ext cx="1533600" cy="457200"/>
          </a:xfrm>
          <a:prstGeom prst="rect">
            <a:avLst/>
          </a:prstGeom>
          <a:ln w="0">
            <a:noFill/>
          </a:ln>
        </p:spPr>
      </p:pic>
      <p:pic>
        <p:nvPicPr>
          <p:cNvPr id="95" name="Picture 9" descr="Pearson_Strap_Bound_White"/>
          <p:cNvPicPr/>
          <p:nvPr/>
        </p:nvPicPr>
        <p:blipFill>
          <a:blip r:embed="rId3"/>
          <a:stretch/>
        </p:blipFill>
        <p:spPr>
          <a:xfrm>
            <a:off x="-3240" y="6400800"/>
            <a:ext cx="1766880" cy="457200"/>
          </a:xfrm>
          <a:prstGeom prst="rect">
            <a:avLst/>
          </a:prstGeom>
          <a:ln w="0">
            <a:noFill/>
          </a:ln>
        </p:spPr>
      </p:pic>
      <p:sp>
        <p:nvSpPr>
          <p:cNvPr id="96"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p:txBody>
      </p:sp>
      <p:sp>
        <p:nvSpPr>
          <p:cNvPr id="97"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85760" indent="-228600">
              <a:spcBef>
                <a:spcPts val="700"/>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28840" indent="-228600">
              <a:spcBef>
                <a:spcPts val="700"/>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771560" indent="-228600">
              <a:spcBef>
                <a:spcPts val="700"/>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77156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9"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0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EC8C-98B0-419C-A1B3-D7E5F5D9D58B}"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ycle of Violence</a:t>
            </a:r>
            <a:endParaRPr b="0" lang="en-US" sz="4000" spc="-1" strike="noStrike">
              <a:solidFill>
                <a:srgbClr val="ffffff"/>
              </a:solidFill>
              <a:latin typeface="Verdana"/>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intergenerational cycle of violence </a:t>
            </a:r>
            <a:r>
              <a:rPr b="0" lang="en-US" sz="2400" spc="-1" strike="noStrike">
                <a:solidFill>
                  <a:srgbClr val="000000"/>
                </a:solidFill>
                <a:latin typeface="Verdana"/>
              </a:rPr>
              <a:t>asserts that abused children are at high risk to become abusers in their own adult intimate relationships.</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ten associated with childhood abuse, a cycle of predictable self-inflicted violence may occur in the adolescent addiction model, triggered by negative emotions such as alienation, frustration, rejection, anger, isolation, depression, or sadnes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silience and Self-Esteem</a:t>
            </a:r>
            <a:endParaRPr b="0" lang="en-US" sz="4000" spc="-1" strike="noStrike">
              <a:solidFill>
                <a:srgbClr val="ffffff"/>
              </a:solidFill>
              <a:latin typeface="Verdana"/>
            </a:endParaRPr>
          </a:p>
        </p:txBody>
      </p:sp>
      <p:sp>
        <p:nvSpPr>
          <p:cNvPr id="165"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ncorrect assumption is that all maltreated children will grow up to abuse their own children later in life. Studies have indicated that this is not necessarily true. The majority of children who are victimized through domestic violence do not commit criminal acts as adult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conditions may affect the response to abuse, both as a child victim and later in life as an adul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ilience </a:t>
            </a:r>
            <a:r>
              <a:rPr b="0" lang="en-US" sz="2400" spc="-1" strike="noStrike">
                <a:solidFill>
                  <a:srgbClr val="000000"/>
                </a:solidFill>
                <a:latin typeface="Verdana"/>
              </a:rPr>
              <a:t>is the manifestation of self-esteem, thought to be one of the factors that mediate the negative effects of child abuse.</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silience</a:t>
            </a:r>
            <a:endParaRPr b="0" lang="en-US" sz="4000" spc="-1" strike="noStrike">
              <a:solidFill>
                <a:srgbClr val="ffffff"/>
              </a:solidFill>
              <a:latin typeface="Verdana"/>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urning </a:t>
            </a:r>
            <a:r>
              <a:rPr b="0" lang="en-US" sz="2400" spc="-1" strike="noStrike">
                <a:solidFill>
                  <a:srgbClr val="000000"/>
                </a:solidFill>
                <a:latin typeface="Verdana"/>
              </a:rPr>
              <a:t>refers to a major transition in the life of a person when he or she takes on a new set of roles, enters into fresh relationships with a new set of people, and achieves a new self-concept. It is a method of coping that brings about change in an effort to avoid continuing the negative behavior that has been witnessed or experienced.</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sequences of abuse will vary according to multiple factors, including the form and severity of the abuse.</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buse and Criminal Behavior</a:t>
            </a:r>
            <a:endParaRPr b="0" lang="en-US" sz="4000" spc="-1" strike="noStrike">
              <a:solidFill>
                <a:srgbClr val="ffffff"/>
              </a:solidFill>
              <a:latin typeface="Verdana"/>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st consistent predictor of juvenile violence is childhood physical abuse victimiza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ycle of abuse” suggests strongly that those children who are abused or neglected, either physically or sexually, grow up to engage in criminal activity at a greater rate than those who are not abused or neglecte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ly intervention, anger management, and peer relationships are important efforts to both prevent delinquency and lessen the psychological distress of victims.</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buse and Consequences</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ng other things, abuse and neglect increases the likelihood of repressed social information processing, lower performance in school, and relationship problem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trust of others, overcompliance with authority figures, and a tendency to solve interpersonal problems with aggression are all risk factors for victims of physical abus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hame</a:t>
            </a:r>
            <a:r>
              <a:rPr b="0" lang="en-US" sz="2400" spc="-1" strike="noStrike">
                <a:solidFill>
                  <a:srgbClr val="000000"/>
                </a:solidFill>
                <a:latin typeface="Verdana"/>
              </a:rPr>
              <a:t>, the desire to hide the damaged self from others, may result from childhood sexual abus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olescent Offending Patterns</a:t>
            </a:r>
            <a:endParaRPr b="0" lang="en-US" sz="4000" spc="-1" strike="noStrike">
              <a:solidFill>
                <a:srgbClr val="ffffff"/>
              </a:solidFill>
              <a:latin typeface="Verdana"/>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not uncommon that an adolescent is both a victim and an offende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juvenile courts, violations of criminal law are referred to as </a:t>
            </a:r>
            <a:r>
              <a:rPr b="1" lang="en-US" sz="2400" spc="-1" strike="noStrike">
                <a:solidFill>
                  <a:srgbClr val="000000"/>
                </a:solidFill>
                <a:latin typeface="Verdana"/>
              </a:rPr>
              <a:t>delinquency cas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a:solidFill>
                  <a:srgbClr val="000000"/>
                </a:solidFill>
                <a:latin typeface="Verdana"/>
              </a:rPr>
              <a:t>status offense </a:t>
            </a:r>
            <a:r>
              <a:rPr b="0" lang="en-US" sz="2400" spc="-1" strike="noStrike">
                <a:solidFill>
                  <a:srgbClr val="000000"/>
                </a:solidFill>
                <a:latin typeface="Verdana"/>
              </a:rPr>
              <a:t>is an act that would not be an offense if it were committed by an adul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ird type of juvenile case concerns juveniles who need supervis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s also have laws that allow younger juveniles to be tried as adults for some specific crimes, such as homicide. </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nimal Abuse</a:t>
            </a:r>
            <a:endParaRPr b="0" lang="en-US" sz="4000" spc="-1" strike="noStrike">
              <a:solidFill>
                <a:srgbClr val="ffffff"/>
              </a:solidFill>
              <a:latin typeface="Verdana"/>
            </a:endParaRPr>
          </a:p>
        </p:txBody>
      </p:sp>
      <p:sp>
        <p:nvSpPr>
          <p:cNvPr id="175" name=""/>
          <p:cNvSpPr txBox="1"/>
          <p:nvPr/>
        </p:nvSpPr>
        <p:spPr>
          <a:xfrm>
            <a:off x="457200" y="1600200"/>
            <a:ext cx="8229600" cy="46483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imal abuse </a:t>
            </a:r>
            <a:r>
              <a:rPr b="0" lang="en-US" sz="2400" spc="-1" strike="noStrike">
                <a:solidFill>
                  <a:srgbClr val="000000"/>
                </a:solidFill>
                <a:latin typeface="Verdana"/>
              </a:rPr>
              <a:t>is defined as socially unacceptable behavior that intentionally causes unnecessary pain, suffering, or distress to and/or death of an animal.</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hood abuse of animals is predictive of violent crime offending at a later age as well as of committing property offenses, drug offenses, public disorder offenses, and exhibiting a range of antisocial problem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suggests a connection between child abuse and neglect, domestic violence, and animal abuse.</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Juvenile Care Providers</a:t>
            </a:r>
            <a:endParaRPr b="0" lang="en-US" sz="4000" spc="-1" strike="noStrike">
              <a:solidFill>
                <a:srgbClr val="ffffff"/>
              </a:solidFill>
              <a:latin typeface="Verdana"/>
            </a:endParaRPr>
          </a:p>
        </p:txBody>
      </p:sp>
      <p:sp>
        <p:nvSpPr>
          <p:cNvPr id="17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erous studies have suggested that children are at risk for sexual abuse at the hands of child-care providers. However, older children account for as much as 40% of the offenses committed in the child-care context.</a:t>
            </a:r>
            <a:endParaRPr b="0" lang="en-US" sz="2400" spc="-1" strike="noStrike">
              <a:solidFill>
                <a:srgbClr val="000000"/>
              </a:solidFill>
              <a:latin typeface="Verdana"/>
            </a:endParaRPr>
          </a:p>
          <a:p>
            <a:pPr marL="332640" indent="-332640">
              <a:spcBef>
                <a:spcPts val="4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study of child-care providers who sexually abuse children, juvenile offenders charged with supervising younger children tended to victimize 4- and 5-year-olds predominately.</a:t>
            </a:r>
            <a:endParaRPr b="0" lang="en-US" sz="24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ulden, H. M., Firestone, P., &amp; Wexler, A. F. (2007). Child care providers who commit sexual offences: A description of offender, offence, and victim characteristics. </a:t>
            </a:r>
            <a:r>
              <a:rPr b="0" i="1" lang="en-US" sz="1000" spc="-1" strike="noStrike">
                <a:solidFill>
                  <a:srgbClr val="000000"/>
                </a:solidFill>
                <a:latin typeface="Verdana"/>
              </a:rPr>
              <a:t>International Journal of Offender Therapy and Comparative Criminology, 51 </a:t>
            </a:r>
            <a:r>
              <a:rPr b="0" lang="en-US" sz="1000" spc="-1" strike="noStrike">
                <a:solidFill>
                  <a:srgbClr val="000000"/>
                </a:solidFill>
                <a:latin typeface="Verdana"/>
              </a:rPr>
              <a:t>(4), 384–406. doi: 10.1177/0306624x06298465</a:t>
            </a:r>
            <a:endParaRPr b="0" lang="en-US" sz="10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urder</a:t>
            </a:r>
            <a:endParaRPr b="0" lang="en-US" sz="4000" spc="-1" strike="noStrike">
              <a:solidFill>
                <a:srgbClr val="ffffff"/>
              </a:solidFill>
              <a:latin typeface="Verdana"/>
            </a:endParaRPr>
          </a:p>
        </p:txBody>
      </p:sp>
      <p:sp>
        <p:nvSpPr>
          <p:cNvPr id="17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ll age categories, most perpetrators of homicides are male.</a:t>
            </a:r>
            <a:endParaRPr b="0" lang="en-US" sz="2800" spc="-1" strike="noStrike">
              <a:solidFill>
                <a:srgbClr val="000000"/>
              </a:solidFill>
              <a:latin typeface="Verdana"/>
            </a:endParaRPr>
          </a:p>
          <a:p>
            <a:pPr marL="335880" indent="-3358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mily members account for approximately 6% of the victims killed by a person under age 18.</a:t>
            </a:r>
            <a:endParaRPr b="0" lang="en-US" sz="28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oper, A., &amp; Smith, E. L. (2011). </a:t>
            </a:r>
            <a:r>
              <a:rPr b="0" i="1" lang="en-US" sz="1000" spc="-1" strike="noStrike">
                <a:solidFill>
                  <a:srgbClr val="000000"/>
                </a:solidFill>
                <a:latin typeface="Verdana"/>
              </a:rPr>
              <a:t>Homicide trends in the United States, 1980–2008: Annual rates for 2009 and 2010</a:t>
            </a:r>
            <a:r>
              <a:rPr b="0" lang="en-US" sz="1000" spc="-1" strike="noStrike">
                <a:solidFill>
                  <a:srgbClr val="000000"/>
                </a:solidFill>
                <a:latin typeface="Verdana"/>
              </a:rPr>
              <a:t>. (NCJ 236018). Washington, DC: U.S. Department of Justice. Retrieved from http://bjs.gov/content/pub/pdf/htus8008.pdf</a:t>
            </a:r>
            <a:endParaRPr b="0" lang="en-US" sz="10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urder</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arricide</a:t>
            </a:r>
            <a:r>
              <a:rPr b="0" lang="en-US" sz="2800" spc="-1" strike="noStrike">
                <a:solidFill>
                  <a:srgbClr val="000000"/>
                </a:solidFill>
                <a:latin typeface="Verdana"/>
              </a:rPr>
              <a:t>, the act of killing one’s parent, is one form of murder committed by juveniles. </a:t>
            </a:r>
            <a:endParaRPr b="0" lang="en-US" sz="28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ricide</a:t>
            </a:r>
            <a:r>
              <a:rPr b="0" lang="en-US" sz="2400" spc="-1" strike="noStrike">
                <a:solidFill>
                  <a:srgbClr val="000000"/>
                </a:solidFill>
                <a:latin typeface="Verdana"/>
              </a:rPr>
              <a:t> is act of killing one’s mother.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tricide </a:t>
            </a:r>
            <a:r>
              <a:rPr b="0" lang="en-US" sz="2400" spc="-1" strike="noStrike">
                <a:solidFill>
                  <a:srgbClr val="000000"/>
                </a:solidFill>
                <a:latin typeface="Verdana"/>
              </a:rPr>
              <a:t>is the act of killing one’s father.</a:t>
            </a:r>
            <a:endParaRPr b="0" lang="en-US" sz="24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oper, A., &amp; Smith, E. L. (2011). </a:t>
            </a:r>
            <a:r>
              <a:rPr b="0" i="1" lang="en-US" sz="1000" spc="-1" strike="noStrike">
                <a:solidFill>
                  <a:srgbClr val="000000"/>
                </a:solidFill>
                <a:latin typeface="Verdana"/>
              </a:rPr>
              <a:t>Homicide trends in the United States, 1980–2008: Annual rates for 2009 and 2010</a:t>
            </a:r>
            <a:r>
              <a:rPr b="0" lang="en-US" sz="1000" spc="-1" strike="noStrike">
                <a:solidFill>
                  <a:srgbClr val="000000"/>
                </a:solidFill>
                <a:latin typeface="Verdana"/>
              </a:rPr>
              <a:t>. (NCJ 236018). Washington, DC: U.S. Department of Justice. Retrieved from http://bjs.gov/content/pub/pdf/htus8008.pdf</a:t>
            </a:r>
            <a:endParaRPr b="0" lang="en-US" sz="1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major theories of family violence that pertain to adolescent offend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why children abused by family violence may not themselves become offende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ve examples of acts that constitute adolescent offending pattern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consequences of family violence on subsequent juvenile behaviors.</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unaways</a:t>
            </a:r>
            <a:endParaRPr b="0" lang="en-US" sz="4000" spc="-1" strike="noStrike">
              <a:solidFill>
                <a:srgbClr val="ffffff"/>
              </a:solidFill>
              <a:latin typeface="Verdana"/>
            </a:endParaRPr>
          </a:p>
        </p:txBody>
      </p:sp>
      <p:sp>
        <p:nvSpPr>
          <p:cNvPr id="183" name=""/>
          <p:cNvSpPr txBox="1"/>
          <p:nvPr/>
        </p:nvSpPr>
        <p:spPr>
          <a:xfrm>
            <a:off x="457200" y="1600200"/>
            <a:ext cx="8229600" cy="46483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lang="en-US" sz="2800" spc="-1" strike="noStrike">
                <a:solidFill>
                  <a:srgbClr val="000000"/>
                </a:solidFill>
                <a:latin typeface="Verdana"/>
              </a:rPr>
              <a:t>runaway </a:t>
            </a:r>
            <a:r>
              <a:rPr b="0" lang="en-US" sz="2800" spc="-1" strike="noStrike">
                <a:solidFill>
                  <a:srgbClr val="000000"/>
                </a:solidFill>
                <a:latin typeface="Verdana"/>
              </a:rPr>
              <a:t>is “any child who is separated from the child’s guardian and appears to be in need of emergency housing and other services.”</a:t>
            </a:r>
            <a:endParaRPr b="0" lang="en-US" sz="28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hio Rev. Code Ann.§5119.64 (2011)</a:t>
            </a:r>
            <a:endParaRPr b="0" lang="en-US" sz="10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unaways</a:t>
            </a:r>
            <a:endParaRPr b="0" lang="en-US" sz="4000" spc="-1" strike="noStrike">
              <a:solidFill>
                <a:srgbClr val="ffffff"/>
              </a:solidFill>
              <a:latin typeface="Verdana"/>
            </a:endParaRPr>
          </a:p>
        </p:txBody>
      </p:sp>
      <p:sp>
        <p:nvSpPr>
          <p:cNvPr id="185" name=""/>
          <p:cNvSpPr txBox="1"/>
          <p:nvPr/>
        </p:nvSpPr>
        <p:spPr>
          <a:xfrm>
            <a:off x="457200" y="1600200"/>
            <a:ext cx="8229600" cy="46483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ximately 1.6 million children and youth (ages 12 to 17) run away every year.</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th victimization is highly correlated with the decision to run away from hom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ikelihood of running away from home is three times higher for respondents who were physically or verbally abused and twice as likely for sexual abuse survivors, as compared to those youth who were not abused.</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xual Offending</a:t>
            </a:r>
            <a:endParaRPr b="0" lang="en-US" sz="4000" spc="-1" strike="noStrike">
              <a:solidFill>
                <a:srgbClr val="ffffff"/>
              </a:solidFill>
              <a:latin typeface="Verdana"/>
            </a:endParaRPr>
          </a:p>
        </p:txBody>
      </p:sp>
      <p:sp>
        <p:nvSpPr>
          <p:cNvPr id="187" name=""/>
          <p:cNvSpPr txBox="1"/>
          <p:nvPr/>
        </p:nvSpPr>
        <p:spPr>
          <a:xfrm>
            <a:off x="304920" y="1447560"/>
            <a:ext cx="8534160" cy="480060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quently sexual offenders report that they began offending in their adolescent years. An early target may be a younger sibling.</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venile offenders make up more than one-third of the sexual offenders against minors that are known to the police.</a:t>
            </a:r>
            <a:endParaRPr b="0" lang="en-US" sz="28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nkelhor, D., Ormrod, R., &amp; Chaffin, M. (2009). </a:t>
            </a:r>
            <a:r>
              <a:rPr b="0" i="1" lang="en-US" sz="1000" spc="-1" strike="noStrike">
                <a:solidFill>
                  <a:srgbClr val="000000"/>
                </a:solidFill>
                <a:latin typeface="Verdana"/>
              </a:rPr>
              <a:t>Juveniles who commit sex offenses against minors</a:t>
            </a:r>
            <a:r>
              <a:rPr b="0" lang="en-US" sz="1000" spc="-1" strike="noStrike">
                <a:solidFill>
                  <a:srgbClr val="000000"/>
                </a:solidFill>
                <a:latin typeface="Verdana"/>
              </a:rPr>
              <a:t>. (NCJ 227763). Washington, DC: Office of Justice Programs.</a:t>
            </a:r>
            <a:endParaRPr b="0" lang="en-US" sz="1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exual Offending</a:t>
            </a:r>
            <a:endParaRPr b="0" lang="en-US" sz="4000" spc="-1" strike="noStrike">
              <a:solidFill>
                <a:srgbClr val="ffffff"/>
              </a:solidFill>
              <a:latin typeface="Verdana"/>
            </a:endParaRPr>
          </a:p>
        </p:txBody>
      </p:sp>
      <p:sp>
        <p:nvSpPr>
          <p:cNvPr id="189" name=""/>
          <p:cNvSpPr txBox="1"/>
          <p:nvPr/>
        </p:nvSpPr>
        <p:spPr>
          <a:xfrm>
            <a:off x="304920" y="1447560"/>
            <a:ext cx="8534160" cy="480060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venile sexual offenders represent a diverse group; some target only children, whereas others assault peer and adult female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ximately 85-95% of juvenile offenders who abuse minors do not become sex offenders in adolescence or adulthood.</a:t>
            </a:r>
            <a:endParaRPr b="0" lang="en-US" sz="28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nkelhor, D., Ormrod, R., &amp; Chaffin, M. (2009). </a:t>
            </a:r>
            <a:r>
              <a:rPr b="0" i="1" lang="en-US" sz="1000" spc="-1" strike="noStrike">
                <a:solidFill>
                  <a:srgbClr val="000000"/>
                </a:solidFill>
                <a:latin typeface="Verdana"/>
              </a:rPr>
              <a:t>Juveniles who commit sex offenses against minors</a:t>
            </a:r>
            <a:r>
              <a:rPr b="0" lang="en-US" sz="1000" spc="-1" strike="noStrike">
                <a:solidFill>
                  <a:srgbClr val="000000"/>
                </a:solidFill>
                <a:latin typeface="Verdana"/>
              </a:rPr>
              <a:t>. (NCJ 227763). Washington, DC: Office of Justice Programs.</a:t>
            </a:r>
            <a:endParaRPr b="0" lang="en-US" sz="1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ibling Violence</a:t>
            </a:r>
            <a:endParaRPr b="0" lang="en-US" sz="4000" spc="-1" strike="noStrike">
              <a:solidFill>
                <a:srgbClr val="ffffff"/>
              </a:solidFill>
              <a:latin typeface="Verdana"/>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has suggested that sibling abuse may be the most common form of family violenc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ence between siblings is underreported and underdocumented, and its effects can be serious. Adults and children commit similar types of abuse: physical, sexual, and emotional abuse. The acts involve punching, hitting, kicking, biting, and rap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otional sibling abuse </a:t>
            </a:r>
            <a:r>
              <a:rPr b="0" lang="en-US" sz="2400" spc="-1" strike="noStrike">
                <a:solidFill>
                  <a:srgbClr val="000000"/>
                </a:solidFill>
                <a:latin typeface="Verdana"/>
              </a:rPr>
              <a:t>is characterized by the constancy and intensity of the words and actions that express contempt and degradation.</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een Dating Violence</a:t>
            </a:r>
            <a:endParaRPr b="0" lang="en-US" sz="4000" spc="-1" strike="noStrike">
              <a:solidFill>
                <a:srgbClr val="ffffff"/>
              </a:solidFill>
              <a:latin typeface="Verdana"/>
            </a:endParaRPr>
          </a:p>
        </p:txBody>
      </p:sp>
      <p:sp>
        <p:nvSpPr>
          <p:cNvPr id="19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ating violence </a:t>
            </a:r>
            <a:r>
              <a:rPr b="0" lang="en-US" sz="2400" spc="-1" strike="noStrike">
                <a:solidFill>
                  <a:srgbClr val="000000"/>
                </a:solidFill>
                <a:latin typeface="Verdana"/>
              </a:rPr>
              <a:t>means “an act by an individual that is against another individual with whom that person has or has had a dating relationship and that is intended to result in physical harm, bodily injury, assault, or sexual assault or that is a threat that reasonably places the individual in fear of imminent physical harm, bodily injury, assault, or sexual assault, but does not include defensive measures to protect oneself.”</a:t>
            </a:r>
            <a:endParaRPr b="0" lang="en-US" sz="2400" spc="-1" strike="noStrike">
              <a:solidFill>
                <a:srgbClr val="000000"/>
              </a:solidFill>
              <a:latin typeface="Verdana"/>
            </a:endParaRPr>
          </a:p>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ctimization rates for adolescent dating violence are significant.</a:t>
            </a:r>
            <a:endParaRPr b="0" lang="en-US" sz="24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exas Family Code Section 71.0021</a:t>
            </a:r>
            <a:endParaRPr b="0" lang="en-US" sz="1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arent Abuse</a:t>
            </a:r>
            <a:endParaRPr b="0" lang="en-US" sz="4000" spc="-1" strike="noStrike">
              <a:solidFill>
                <a:srgbClr val="ffffff"/>
              </a:solidFill>
              <a:latin typeface="Verdana"/>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ies have revealed that a significant proportion of family violence is perpetrated by a juvenile against parents or sibling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archers suggest that parent victims feel shame at their inability to control their children; therefore, the problem is grossly underreported.</a:t>
            </a:r>
            <a:endParaRPr b="0" lang="en-US" sz="28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arent Abuse</a:t>
            </a:r>
            <a:endParaRPr b="0" lang="en-US" sz="4000" spc="-1" strike="noStrike">
              <a:solidFill>
                <a:srgbClr val="ffffff"/>
              </a:solidFill>
              <a:latin typeface="Verdana"/>
            </a:endParaRPr>
          </a:p>
        </p:txBody>
      </p:sp>
      <p:sp>
        <p:nvSpPr>
          <p:cNvPr id="19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ne study, 80% of the youth who were violent toward parents indicated that their parents were violent toward them.</a:t>
            </a:r>
            <a:endParaRPr b="0" lang="en-US" sz="2800" spc="-1" strike="noStrike">
              <a:solidFill>
                <a:srgbClr val="000000"/>
              </a:solidFill>
              <a:latin typeface="Verdana"/>
            </a:endParaRPr>
          </a:p>
          <a:p>
            <a:pPr marL="332640" indent="-33264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2640" indent="-33264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ata suggest that the percentage of parent abuse has increased and is likely to continue.</a:t>
            </a:r>
            <a:endParaRPr b="0" lang="en-US" sz="28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Zahn, M., Brumbaugh, S., Steffensmeier, D., Field, B., </a:t>
            </a:r>
            <a:r>
              <a:rPr b="0" lang="de-DE" sz="1000" spc="-1" strike="noStrike">
                <a:solidFill>
                  <a:srgbClr val="000000"/>
                </a:solidFill>
                <a:latin typeface="Verdana"/>
              </a:rPr>
              <a:t>Morash, M., Chesney-Lind, M., . . . Kruttschnitt, C. </a:t>
            </a:r>
            <a:r>
              <a:rPr b="0" lang="en-US" sz="1000" spc="-1" strike="noStrike">
                <a:solidFill>
                  <a:srgbClr val="000000"/>
                </a:solidFill>
                <a:latin typeface="Verdana"/>
              </a:rPr>
              <a:t>(2008). </a:t>
            </a:r>
            <a:r>
              <a:rPr b="0" i="1" lang="en-US" sz="1000" spc="-1" strike="noStrike">
                <a:solidFill>
                  <a:srgbClr val="000000"/>
                </a:solidFill>
                <a:latin typeface="Verdana"/>
              </a:rPr>
              <a:t>Girls study group: Understanding and responding to girls’ delinquency</a:t>
            </a:r>
            <a:r>
              <a:rPr b="0" lang="en-US" sz="1000" spc="-1" strike="noStrike">
                <a:solidFill>
                  <a:srgbClr val="000000"/>
                </a:solidFill>
                <a:latin typeface="Verdana"/>
              </a:rPr>
              <a:t>. (NCJ 218905). Washington, DC: Office of Juvenile Justice and Delinquency Prevention.</a:t>
            </a:r>
            <a:endParaRPr b="0" lang="en-US" sz="10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edophilia</a:t>
            </a:r>
            <a:endParaRPr b="0" lang="en-US" sz="4000" spc="-1" strike="noStrike">
              <a:solidFill>
                <a:srgbClr val="ffffff"/>
              </a:solidFill>
              <a:latin typeface="Verdana"/>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rm </a:t>
            </a:r>
            <a:r>
              <a:rPr b="1" lang="en-US" sz="2400" spc="-1" strike="noStrike">
                <a:solidFill>
                  <a:srgbClr val="000000"/>
                </a:solidFill>
                <a:latin typeface="Verdana"/>
              </a:rPr>
              <a:t>pedophile </a:t>
            </a:r>
            <a:r>
              <a:rPr b="0" lang="en-US" sz="2400" spc="-1" strike="noStrike">
                <a:solidFill>
                  <a:srgbClr val="000000"/>
                </a:solidFill>
                <a:latin typeface="Verdana"/>
              </a:rPr>
              <a:t>refers to an adult who has a sustained sexual orientation toward childr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s indicate that the mean age of pedophiles is 28 years for male offenders and 26 years old for female offenders. Pedophiles have a more frequent sex preference for their own gender, as compared to adults who commit sex crimes like rap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s indicate that 75-90% of pedophiles were abused within their own families.</a:t>
            </a:r>
            <a:endParaRPr b="0" lang="en-US" sz="24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ughes, J. R. (2007). Review of medical reports on pedophilia. </a:t>
            </a:r>
            <a:r>
              <a:rPr b="0" i="1" lang="en-US" sz="1000" spc="-1" strike="noStrike">
                <a:solidFill>
                  <a:srgbClr val="000000"/>
                </a:solidFill>
                <a:latin typeface="Verdana"/>
              </a:rPr>
              <a:t>Clinical Pediatrics, 46 </a:t>
            </a:r>
            <a:r>
              <a:rPr b="0" lang="en-US" sz="1000" spc="-1" strike="noStrike">
                <a:solidFill>
                  <a:srgbClr val="000000"/>
                </a:solidFill>
                <a:latin typeface="Verdana"/>
              </a:rPr>
              <a:t>, 667–682.</a:t>
            </a:r>
            <a:endParaRPr b="0" lang="en-US" sz="1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ild Pornography</a:t>
            </a:r>
            <a:endParaRPr b="0" lang="en-US" sz="4000" spc="-1" strike="noStrike">
              <a:solidFill>
                <a:srgbClr val="ffffff"/>
              </a:solidFill>
              <a:latin typeface="Verdana"/>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nography that depicts actual children is not subject to the protection of the  Constitution and is in a category of crimes against society.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ld pornography is a form of child sexual exploitation.</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Focus</a:t>
            </a:r>
            <a:endParaRPr b="0" lang="en-US" sz="4000" spc="-1" strike="noStrike">
              <a:solidFill>
                <a:srgbClr val="ffffff"/>
              </a:solidFill>
              <a:latin typeface="Verdana"/>
            </a:endParaRPr>
          </a:p>
        </p:txBody>
      </p:sp>
      <p:sp>
        <p:nvSpPr>
          <p:cNvPr id="149" name=""/>
          <p:cNvSpPr txBox="1"/>
          <p:nvPr/>
        </p:nvSpPr>
        <p:spPr>
          <a:xfrm>
            <a:off x="457200" y="1447920"/>
            <a:ext cx="8229600" cy="4876560"/>
          </a:xfrm>
          <a:prstGeom prst="rect">
            <a:avLst/>
          </a:prstGeom>
          <a:noFill/>
          <a:ln w="0">
            <a:noFill/>
          </a:ln>
        </p:spPr>
        <p:txBody>
          <a:bodyPr anchor="t">
            <a:normAutofit/>
          </a:bodyPr>
          <a:p>
            <a:pPr marL="343080" indent="-343080">
              <a:spcBef>
                <a:spcPts val="5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s chapter addresses what we know about violence in the family and its influences on juvenile behaviors.</a:t>
            </a:r>
            <a:endParaRPr b="0" lang="en-US" sz="2300" spc="-1" strike="noStrike">
              <a:solidFill>
                <a:srgbClr val="000000"/>
              </a:solidFill>
              <a:latin typeface="Verdana"/>
            </a:endParaRPr>
          </a:p>
          <a:p>
            <a:pPr marL="343080" indent="-343080">
              <a:spcBef>
                <a:spcPts val="5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hild maltreatment is a serious and pervasive health care problem in the U.S., with staggering costs to the individual and to society.</a:t>
            </a:r>
            <a:endParaRPr b="0" lang="en-US" sz="2300" spc="-1" strike="noStrike">
              <a:solidFill>
                <a:srgbClr val="000000"/>
              </a:solidFill>
              <a:latin typeface="Verdana"/>
            </a:endParaRPr>
          </a:p>
          <a:p>
            <a:pPr marL="343080" indent="-343080">
              <a:spcBef>
                <a:spcPts val="5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earch and theory suggest that some forms of victimization increase the risk of juvenile criminal offending.</a:t>
            </a:r>
            <a:endParaRPr b="0" lang="en-US" sz="2300" spc="-1" strike="noStrike">
              <a:solidFill>
                <a:srgbClr val="000000"/>
              </a:solidFill>
              <a:latin typeface="Verdana"/>
            </a:endParaRPr>
          </a:p>
          <a:p>
            <a:pPr marL="343080" indent="-343080">
              <a:spcBef>
                <a:spcPts val="5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hild maltreatment is found to be a significant predictor of adult arrest, although achieving developmental roles dramatically reduces the risk.</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ild Pornography</a:t>
            </a:r>
            <a:endParaRPr b="0" lang="en-US" sz="4000" spc="-1" strike="noStrike">
              <a:solidFill>
                <a:srgbClr val="ffffff"/>
              </a:solidFill>
              <a:latin typeface="Verdana"/>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two types of pornography that involve juveniles: </a:t>
            </a:r>
            <a:endParaRPr b="0" lang="en-US" sz="28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venile victim pornography that includes an identifiable victim of sexual abus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exploitation pornography, in which the child is sexually depicted but no additional offense is involved (such as rape)</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Based Theory</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ecological model </a:t>
            </a:r>
            <a:r>
              <a:rPr b="0" lang="en-US" sz="2400" spc="-1" strike="noStrike">
                <a:solidFill>
                  <a:srgbClr val="000000"/>
                </a:solidFill>
                <a:latin typeface="Verdana"/>
              </a:rPr>
              <a:t>has been identified as the best suited framework to address the causes, consequences, and treatment formulations for abused childre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cological model incorporates much of the research developed through the three traditional schools of criminological theory.</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cological Model</a:t>
            </a:r>
            <a:endParaRPr b="0" lang="en-US" sz="4000" spc="-1" strike="noStrike">
              <a:solidFill>
                <a:srgbClr val="ffffff"/>
              </a:solidFill>
              <a:latin typeface="Verdana"/>
            </a:endParaRPr>
          </a:p>
        </p:txBody>
      </p:sp>
      <p:pic>
        <p:nvPicPr>
          <p:cNvPr id="153" name="Picture 4" descr=""/>
          <p:cNvPicPr/>
          <p:nvPr/>
        </p:nvPicPr>
        <p:blipFill>
          <a:blip r:embed="rId1"/>
          <a:stretch/>
        </p:blipFill>
        <p:spPr>
          <a:xfrm>
            <a:off x="1295280" y="1447920"/>
            <a:ext cx="6255000" cy="4876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Systems Theory</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mily systems theory </a:t>
            </a:r>
            <a:r>
              <a:rPr b="0" lang="en-US" sz="2400" spc="-1" strike="noStrike">
                <a:solidFill>
                  <a:srgbClr val="000000"/>
                </a:solidFill>
                <a:latin typeface="Verdana"/>
              </a:rPr>
              <a:t>focuses primarily on family behavior and seeks to identify the problems that are a consequence of dysfunctional relationships among family membe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lict within an intimate relationship is blamed on the lack of communication between the partne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f-imposed social isolation, in addition to rigid expectations of loyalty and privacy, make this a difficult situation for families when battering is introduced as a means of control.</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Systems Theory</a:t>
            </a:r>
            <a:endParaRPr b="0" lang="en-US" sz="4000" spc="-1" strike="noStrike">
              <a:solidFill>
                <a:srgbClr val="ffffff"/>
              </a:solidFill>
              <a:latin typeface="Verdana"/>
            </a:endParaRPr>
          </a:p>
        </p:txBody>
      </p:sp>
      <p:sp>
        <p:nvSpPr>
          <p:cNvPr id="157" name=""/>
          <p:cNvSpPr txBox="1"/>
          <p:nvPr/>
        </p:nvSpPr>
        <p:spPr>
          <a:xfrm>
            <a:off x="228600" y="1447920"/>
            <a:ext cx="8686800" cy="487656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pts related to family structure in this theory:</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undari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 and intimac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edom of expression</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rmth, joy, and humor</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ation and negotiating skill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ue systems</a:t>
            </a:r>
            <a:endParaRPr b="0" lang="en-US" sz="24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Systems Theory</a:t>
            </a:r>
            <a:endParaRPr b="0" lang="en-US" sz="4000" spc="-1" strike="noStrike">
              <a:solidFill>
                <a:srgbClr val="ffffff"/>
              </a:solidFill>
              <a:latin typeface="Verdana"/>
            </a:endParaRPr>
          </a:p>
        </p:txBody>
      </p:sp>
      <p:sp>
        <p:nvSpPr>
          <p:cNvPr id="159" name=""/>
          <p:cNvSpPr txBox="1"/>
          <p:nvPr/>
        </p:nvSpPr>
        <p:spPr>
          <a:xfrm>
            <a:off x="228600" y="1447920"/>
            <a:ext cx="8686800" cy="487656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s are the most critical factor in the development of children.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irical findings in many studies indicate that parental behavior can either increase or decrease an adolescent’s risk for delinquency and other problem behavior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nsequences</a:t>
            </a:r>
            <a:endParaRPr b="0" lang="en-US" sz="4000" spc="-1" strike="noStrike">
              <a:solidFill>
                <a:srgbClr val="ffffff"/>
              </a:solidFill>
              <a:latin typeface="Verdana"/>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ren who have either witnessed violence in their parents or experienced abuse may learn violent behavior, and may also learn to justify violent behavior as appropriat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jority of abuse victims do not commit family or other forms of violence as adults; however, many suffer long after the abuse end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ronic physical abuse can result in long-term physical disabilities, including brain damage, hearing loss, dental problems, and eye damage.</a:t>
            </a: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22:19:29Z</dcterms:created>
  <dc:creator>cjcoordccol</dc:creator>
  <dc:description/>
  <dc:language>en-US</dc:language>
  <cp:lastModifiedBy>Cecil, Kevin</cp:lastModifiedBy>
  <dcterms:modified xsi:type="dcterms:W3CDTF">2013-09-16T14:03:04Z</dcterms:modified>
  <cp:revision>41</cp:revision>
  <dc:subject/>
  <dc:title>Slide 1</dc:title>
</cp:coreProperties>
</file>